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D6D-FFDA-4852-8293-8C2BA1F2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E70-E6A1-48EC-94A2-FC199204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E8F-529C-4607-A417-54E994E5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077-65DB-4872-AAAC-7CE3E752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A50-89CD-4385-9E25-06B1BD34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4BE-4DCD-4B94-9CED-D42E0A9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573-E3A1-4F3E-A769-138F7B6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2FB-7E0D-4D88-A100-7A81BEB2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F05-00D4-43BB-94AD-5B8CAA8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E1F-76FD-462D-8AB3-6EAFB17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48D-A528-4570-BD35-2A1C22C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996-BA2C-4940-A094-92C1D34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6FC-E048-48EE-B8FE-9A68FBAD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2472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680000" cy="395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00492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565880" cy="4895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5764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2:08:13Z</dcterms:created>
  <dc:creator>switch on</dc:creator>
  <dc:description/>
  <dc:language>en-US</dc:language>
  <cp:lastModifiedBy>switch on</cp:lastModifiedBy>
  <dcterms:modified xsi:type="dcterms:W3CDTF">2006-05-26T22:25:22Z</dcterms:modified>
  <cp:revision>3</cp:revision>
  <dc:subject/>
  <dc:title>Slide 1</dc:title>
</cp:coreProperties>
</file>