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E24-5DCA-4425-B213-5E6B9560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62B-8450-4935-9DF7-8DD66FBD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4D6-458D-4621-BDB5-A1071DAA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372-84C9-427C-95C6-A099FEDF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7BD-8FDB-417C-AD86-810986F0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23F-552E-453D-B122-DD38F564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3F7-72A8-4AA8-B9BD-40193A31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E44-9029-4AC1-81DC-EB6E709C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19E-D082-4ACE-8A25-9030203A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EC1-442F-4941-B7A2-A4E78154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F1D-8C0A-45D3-B5D6-9A1D707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687-5DBC-4D0A-A516-2E713D7C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1EB-B9CE-47CF-9C85-64CE523B8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82472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680000" cy="3951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004920" cy="5545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565880" cy="4895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21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157640" cy="5545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22:08:13Z</dcterms:created>
  <dc:creator>switch on</dc:creator>
  <dc:description/>
  <dc:language>en-US</dc:language>
  <cp:lastModifiedBy>switch on</cp:lastModifiedBy>
  <dcterms:modified xsi:type="dcterms:W3CDTF">2006-05-26T22:25:22Z</dcterms:modified>
  <cp:revision>3</cp:revision>
  <dc:subject/>
  <dc:title>Slide 1</dc:title>
</cp:coreProperties>
</file>